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gif" ContentType="image/gif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56F-24AF-4922-ABF3-EA83EED56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5BE-9191-4827-88AD-AE5B56516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3B7-5D6A-4BA3-87BE-E15564F2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534-1E68-4B16-A225-168C54A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00C-0587-42F9-BA8A-B1F84EBE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78D-01C6-4375-B6D4-BCCDCDB7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D3E-D200-4E8F-B2E9-1833FF4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B57-F985-4134-9456-D7F1D18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D29-3CBB-4210-9223-DBAE362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AFA-D5B2-4B76-994A-A2455EA0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756-AE28-4584-9775-E4F143E3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DB7-F1AF-40D2-AC75-252E82A9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E84-AFBA-4F1C-BD39-95219B7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E62-7071-4CAA-AD1B-56A8551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AEA-3B30-4C8A-BDD2-662A733EC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7.pn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9.gif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" Target="slide3.xml"/><Relationship Id="rId5" Type="http://schemas.openxmlformats.org/officeDocument/2006/relationships/image" Target="../media/image13.pn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6.xml"/><Relationship Id="rId3" Type="http://schemas.openxmlformats.org/officeDocument/2006/relationships/image" Target="../media/image15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slide" Target="slide8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9"/>
          <p:cNvSpPr/>
          <p:nvPr/>
        </p:nvSpPr>
        <p:spPr>
          <a:xfrm>
            <a:off x="6372360" y="476280"/>
            <a:ext cx="1224000" cy="29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3708360" y="476280"/>
            <a:ext cx="100800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7"/>
          <p:cNvSpPr/>
          <p:nvPr/>
        </p:nvSpPr>
        <p:spPr>
          <a:xfrm>
            <a:off x="2627280" y="476280"/>
            <a:ext cx="107964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5"/>
          <p:cNvSpPr/>
          <p:nvPr/>
        </p:nvSpPr>
        <p:spPr>
          <a:xfrm>
            <a:off x="4716360" y="476280"/>
            <a:ext cx="1690920" cy="6381720"/>
          </a:xfrm>
          <a:prstGeom prst="rect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2"/>
          <p:cNvSpPr/>
          <p:nvPr/>
        </p:nvSpPr>
        <p:spPr>
          <a:xfrm>
            <a:off x="1547640" y="476280"/>
            <a:ext cx="1079640" cy="24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1"/>
          <p:cNvSpPr/>
          <p:nvPr/>
        </p:nvSpPr>
        <p:spPr>
          <a:xfrm>
            <a:off x="0" y="5229360"/>
            <a:ext cx="1547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0"/>
          <p:cNvSpPr/>
          <p:nvPr/>
        </p:nvSpPr>
        <p:spPr>
          <a:xfrm>
            <a:off x="0" y="476280"/>
            <a:ext cx="1547640" cy="46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79280" y="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оединения аз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1484280"/>
            <a:ext cx="17636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, ц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гидроксид  аммони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(N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5300640"/>
            <a:ext cx="1547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900000" y="1557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V="1">
            <a:off x="1187280" y="177300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68436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76360" y="1341360"/>
            <a:ext cx="122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, 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V="1">
            <a:off x="2195640" y="141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2195640" y="1989000"/>
            <a:ext cx="21564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V="1">
            <a:off x="2411280" y="1989000"/>
            <a:ext cx="2160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627280" y="1341360"/>
            <a:ext cx="1224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ле-образу-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V="1">
            <a:off x="3635280" y="141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635280" y="1341360"/>
            <a:ext cx="12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оле-образу-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V="1">
            <a:off x="4643280" y="141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4572000" y="1341360"/>
            <a:ext cx="20160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(ж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ый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еустойчи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(N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372360" y="1341360"/>
            <a:ext cx="136836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з,ц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р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.,смешан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дим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7451640" y="141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7"/>
          <p:cNvSpPr/>
          <p:nvPr/>
        </p:nvSpPr>
        <p:spPr>
          <a:xfrm flipH="1">
            <a:off x="5866920" y="3429000"/>
            <a:ext cx="100836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5508720" y="285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5508720" y="48690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 flipH="1">
            <a:off x="6012000" y="4797360"/>
            <a:ext cx="1008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7020000" y="350028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 rot="10800000">
            <a:off x="6587640" y="3716280"/>
            <a:ext cx="4546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+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 rot="10800000">
            <a:off x="5076360" y="2781360"/>
            <a:ext cx="492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7596360" y="476280"/>
            <a:ext cx="1547640" cy="6381720"/>
          </a:xfrm>
          <a:prstGeom prst="rect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7380360" y="1413000"/>
            <a:ext cx="201600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5(к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(NO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8532720" y="2708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8459640" y="4724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 rot="10800000">
            <a:off x="8028000" y="2708280"/>
            <a:ext cx="492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 rot="10800000">
            <a:off x="178920" y="2421000"/>
            <a:ext cx="492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0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3       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4     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5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7164360" y="342900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7020000" y="4797360"/>
            <a:ext cx="93492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-181080" y="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I.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Специфические свойства: взаимодействие с неметал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466560" y="549360"/>
            <a:ext cx="3888000" cy="2702160"/>
            <a:chOff x="466560" y="549360"/>
            <a:chExt cx="3888000" cy="2702160"/>
          </a:xfrm>
        </p:grpSpPr>
        <p:sp>
          <p:nvSpPr>
            <p:cNvPr id="281" name="Rectangle 9"/>
            <p:cNvSpPr/>
            <p:nvPr/>
          </p:nvSpPr>
          <p:spPr>
            <a:xfrm>
              <a:off x="466560" y="549360"/>
              <a:ext cx="3888000" cy="2663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Picture 3" descr=""/>
            <p:cNvPicPr/>
            <p:nvPr/>
          </p:nvPicPr>
          <p:blipFill>
            <a:blip r:embed="rId2"/>
            <a:stretch/>
          </p:blipFill>
          <p:spPr>
            <a:xfrm>
              <a:off x="539640" y="620640"/>
              <a:ext cx="3146400" cy="228600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pic>
          <p:nvPicPr>
            <p:cNvPr id="283" name="Picture 7" descr=""/>
            <p:cNvPicPr/>
            <p:nvPr/>
          </p:nvPicPr>
          <p:blipFill>
            <a:blip r:embed="rId3"/>
            <a:stretch/>
          </p:blipFill>
          <p:spPr>
            <a:xfrm>
              <a:off x="2843280" y="620640"/>
              <a:ext cx="1444680" cy="230364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pic>
          <p:nvPicPr>
            <p:cNvPr id="284" name="Picture 8" descr="Взаимодействие хлора с бромидами и йодидами"/>
            <p:cNvPicPr/>
            <p:nvPr/>
          </p:nvPicPr>
          <p:blipFill>
            <a:blip r:embed="rId4"/>
            <a:stretch/>
          </p:blipFill>
          <p:spPr>
            <a:xfrm>
              <a:off x="611280" y="2421000"/>
              <a:ext cx="457200" cy="457200"/>
            </a:xfrm>
            <a:prstGeom prst="rect">
              <a:avLst/>
            </a:prstGeom>
            <a:ln w="57240">
              <a:solidFill>
                <a:srgbClr val="cc6600"/>
              </a:solidFill>
              <a:miter/>
            </a:ln>
          </p:spPr>
        </p:pic>
        <p:sp>
          <p:nvSpPr>
            <p:cNvPr id="285" name="Text Box 16"/>
            <p:cNvSpPr/>
            <p:nvPr/>
          </p:nvSpPr>
          <p:spPr>
            <a:xfrm>
              <a:off x="611280" y="2852640"/>
              <a:ext cx="36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белый фосф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5"/>
          <p:cNvGrpSpPr/>
          <p:nvPr/>
        </p:nvGrpSpPr>
        <p:grpSpPr>
          <a:xfrm>
            <a:off x="4788000" y="549360"/>
            <a:ext cx="3887640" cy="2702160"/>
            <a:chOff x="4788000" y="549360"/>
            <a:chExt cx="3887640" cy="2702160"/>
          </a:xfrm>
        </p:grpSpPr>
        <p:sp>
          <p:nvSpPr>
            <p:cNvPr id="287" name="Rectangle 12"/>
            <p:cNvSpPr/>
            <p:nvPr/>
          </p:nvSpPr>
          <p:spPr>
            <a:xfrm>
              <a:off x="4788000" y="549360"/>
              <a:ext cx="3887640" cy="2663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11" descr=""/>
            <p:cNvPicPr/>
            <p:nvPr/>
          </p:nvPicPr>
          <p:blipFill>
            <a:blip r:embed="rId5"/>
            <a:stretch/>
          </p:blipFill>
          <p:spPr>
            <a:xfrm>
              <a:off x="5148360" y="620640"/>
              <a:ext cx="3095640" cy="2322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289" name="Text Box 17"/>
            <p:cNvSpPr/>
            <p:nvPr/>
          </p:nvSpPr>
          <p:spPr>
            <a:xfrm>
              <a:off x="4859280" y="2852640"/>
              <a:ext cx="36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уг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0"/>
          <p:cNvGrpSpPr/>
          <p:nvPr/>
        </p:nvGrpSpPr>
        <p:grpSpPr>
          <a:xfrm>
            <a:off x="0" y="3213000"/>
            <a:ext cx="9325080" cy="3494520"/>
            <a:chOff x="0" y="3213000"/>
            <a:chExt cx="9325080" cy="3494520"/>
          </a:xfrm>
        </p:grpSpPr>
        <p:sp>
          <p:nvSpPr>
            <p:cNvPr id="291" name="Text Box 14"/>
            <p:cNvSpPr/>
            <p:nvPr/>
          </p:nvSpPr>
          <p:spPr>
            <a:xfrm>
              <a:off x="0" y="3213000"/>
              <a:ext cx="932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"/>
                </a:rPr>
                <a:t>II. </a:t>
              </a:r>
              <a:r>
                <a:rPr b="1" lang="ru-RU" sz="22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800000"/>
                  </a:solidFill>
                  <a:latin typeface="Arial"/>
                </a:rPr>
                <a:t>. </a:t>
              </a:r>
              <a:r>
                <a:rPr b="1" lang="ru-RU" sz="2200" spc="-1" strike="noStrike">
                  <a:solidFill>
                    <a:srgbClr val="800000"/>
                  </a:solidFill>
                  <a:latin typeface="Arial"/>
                </a:rPr>
                <a:t>Специфические свойства: + органические вещ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27"/>
            <p:cNvGrpSpPr/>
            <p:nvPr/>
          </p:nvGrpSpPr>
          <p:grpSpPr>
            <a:xfrm>
              <a:off x="4788000" y="3716280"/>
              <a:ext cx="3960720" cy="2991240"/>
              <a:chOff x="4788000" y="3716280"/>
              <a:chExt cx="3960720" cy="2991240"/>
            </a:xfrm>
          </p:grpSpPr>
          <p:sp>
            <p:nvSpPr>
              <p:cNvPr id="293" name="Rectangle 20"/>
              <p:cNvSpPr/>
              <p:nvPr/>
            </p:nvSpPr>
            <p:spPr>
              <a:xfrm>
                <a:off x="4788000" y="3716280"/>
                <a:ext cx="3960720" cy="29527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5219640" y="3789360"/>
                <a:ext cx="3024360" cy="251316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sp>
            <p:nvSpPr>
              <p:cNvPr id="295" name="Text Box 19"/>
              <p:cNvSpPr/>
              <p:nvPr/>
            </p:nvSpPr>
            <p:spPr>
              <a:xfrm>
                <a:off x="4788000" y="6308640"/>
                <a:ext cx="396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ожог, проходит через 10 дне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6"/>
            <p:cNvGrpSpPr/>
            <p:nvPr/>
          </p:nvGrpSpPr>
          <p:grpSpPr>
            <a:xfrm>
              <a:off x="395280" y="3716280"/>
              <a:ext cx="4033800" cy="2991240"/>
              <a:chOff x="395280" y="3716280"/>
              <a:chExt cx="4033800" cy="2991240"/>
            </a:xfrm>
          </p:grpSpPr>
          <p:sp>
            <p:nvSpPr>
              <p:cNvPr id="297" name="Rectangle 22"/>
              <p:cNvSpPr/>
              <p:nvPr/>
            </p:nvSpPr>
            <p:spPr>
              <a:xfrm>
                <a:off x="468360" y="3716280"/>
                <a:ext cx="3960720" cy="29527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8"/>
              <p:cNvSpPr/>
              <p:nvPr/>
            </p:nvSpPr>
            <p:spPr>
              <a:xfrm>
                <a:off x="395280" y="6308640"/>
                <a:ext cx="367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скипида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Picture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3789360"/>
                <a:ext cx="3457440" cy="259380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pic>
            <p:nvPicPr>
              <p:cNvPr id="300" name="Picture 8" descr="Взаимодействие хлора с бромидами и йодидами"/>
              <p:cNvPicPr/>
              <p:nvPr/>
            </p:nvPicPr>
            <p:blipFill>
              <a:blip r:embed="rId8"/>
              <a:stretch/>
            </p:blipFill>
            <p:spPr>
              <a:xfrm>
                <a:off x="755640" y="5877000"/>
                <a:ext cx="457200" cy="457200"/>
              </a:xfrm>
              <a:prstGeom prst="rect">
                <a:avLst/>
              </a:prstGeom>
              <a:ln w="57240">
                <a:solidFill>
                  <a:srgbClr val="cc6600"/>
                </a:solidFill>
                <a:miter/>
              </a:ln>
            </p:spPr>
          </p:pic>
        </p:grpSp>
      </p:grpSp>
      <p:sp>
        <p:nvSpPr>
          <p:cNvPr id="301" name="AutoShape 4">
            <a:hlinkClick r:id="rId9" action="ppaction://hlinksldjump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13151"/>
                </a:moveTo>
                <a:lnTo>
                  <a:pt x="7301" y="13151"/>
                </a:lnTo>
                <a:lnTo>
                  <a:pt x="7301" y="18487"/>
                </a:lnTo>
                <a:cubicBezTo>
                  <a:pt x="7301" y="19409"/>
                  <a:pt x="8102" y="20140"/>
                  <a:pt x="9138" y="20140"/>
                </a:cubicBezTo>
                <a:lnTo>
                  <a:pt x="10800" y="20140"/>
                </a:lnTo>
                <a:cubicBezTo>
                  <a:pt x="11836" y="20140"/>
                  <a:pt x="12636" y="19409"/>
                  <a:pt x="12636" y="18487"/>
                </a:cubicBezTo>
                <a:lnTo>
                  <a:pt x="12636" y="13151"/>
                </a:lnTo>
                <a:lnTo>
                  <a:pt x="10800" y="13151"/>
                </a:lnTo>
                <a:lnTo>
                  <a:pt x="14308" y="9644"/>
                </a:lnTo>
                <a:lnTo>
                  <a:pt x="17981" y="13151"/>
                </a:lnTo>
                <a:lnTo>
                  <a:pt x="16144" y="13151"/>
                </a:lnTo>
                <a:lnTo>
                  <a:pt x="16144" y="18487"/>
                </a:lnTo>
                <a:cubicBezTo>
                  <a:pt x="16144" y="21254"/>
                  <a:pt x="13568" y="23813"/>
                  <a:pt x="10800" y="23813"/>
                </a:cubicBezTo>
                <a:lnTo>
                  <a:pt x="9138" y="23813"/>
                </a:lnTo>
                <a:cubicBezTo>
                  <a:pt x="6370" y="23813"/>
                  <a:pt x="3794" y="21254"/>
                  <a:pt x="3794" y="18487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9">
            <a:hlinkClick r:id="rId10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4"/>
          <p:cNvSpPr/>
          <p:nvPr/>
        </p:nvSpPr>
        <p:spPr>
          <a:xfrm>
            <a:off x="539640" y="2276640"/>
            <a:ext cx="7993080" cy="316836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1584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305" name="Text Box 6"/>
          <p:cNvSpPr/>
          <p:nvPr/>
        </p:nvSpPr>
        <p:spPr>
          <a:xfrm>
            <a:off x="250920" y="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 Разложение нит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1189080" y="2421000"/>
            <a:ext cx="2951280" cy="22129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307" name="Picture 10" descr=""/>
          <p:cNvPicPr/>
          <p:nvPr/>
        </p:nvPicPr>
        <p:blipFill>
          <a:blip r:embed="rId4"/>
          <a:stretch/>
        </p:blipFill>
        <p:spPr>
          <a:xfrm>
            <a:off x="5867280" y="2422440"/>
            <a:ext cx="1543320" cy="2232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308" name="Line 11"/>
          <p:cNvSpPr/>
          <p:nvPr/>
        </p:nvSpPr>
        <p:spPr>
          <a:xfrm>
            <a:off x="4500720" y="357336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716360" y="2709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003640" y="4581360"/>
            <a:ext cx="33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слород поддежи- вает г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39640" y="5516640"/>
            <a:ext cx="8353440" cy="1230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.Е.Рудзитис п. 19,2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ис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2(д,е,ж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ля профильного уровня: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 2(з,и,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5"/>
          <p:cNvSpPr/>
          <p:nvPr/>
        </p:nvSpPr>
        <p:spPr>
          <a:xfrm>
            <a:off x="179280" y="3645000"/>
            <a:ext cx="1584360" cy="32130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227640" y="2419200"/>
            <a:ext cx="2737080" cy="252108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6227640" y="0"/>
            <a:ext cx="2737080" cy="237636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484360" y="549360"/>
            <a:ext cx="367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зотная кислота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её сол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1450800" cy="2565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79280" y="0"/>
            <a:ext cx="2212920" cy="3573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4"/>
          <a:stretch/>
        </p:blipFill>
        <p:spPr>
          <a:xfrm>
            <a:off x="1835280" y="3630600"/>
            <a:ext cx="4321080" cy="32274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96" name="Picture 4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1279440" cy="574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7" name="Picture 8" descr=""/>
          <p:cNvPicPr/>
          <p:nvPr/>
        </p:nvPicPr>
        <p:blipFill>
          <a:blip r:embed="rId6"/>
          <a:stretch/>
        </p:blipFill>
        <p:spPr>
          <a:xfrm>
            <a:off x="6300720" y="504720"/>
            <a:ext cx="2589120" cy="181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8" name="Text Box 9"/>
          <p:cNvSpPr/>
          <p:nvPr/>
        </p:nvSpPr>
        <p:spPr>
          <a:xfrm>
            <a:off x="6948360" y="71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7"/>
          <a:stretch/>
        </p:blipFill>
        <p:spPr>
          <a:xfrm>
            <a:off x="6300720" y="2852640"/>
            <a:ext cx="2592360" cy="2016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Text Box 9"/>
          <p:cNvSpPr/>
          <p:nvPr/>
        </p:nvSpPr>
        <p:spPr>
          <a:xfrm>
            <a:off x="6948360" y="242100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(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8"/>
          <a:stretch/>
        </p:blipFill>
        <p:spPr>
          <a:xfrm>
            <a:off x="6227640" y="5002200"/>
            <a:ext cx="2737080" cy="1808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125360"/>
            <a:ext cx="9144000" cy="532800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>
            <a:hlinkClick r:id="rId2" action="ppaction://hlinksldjump"/>
          </p:cNvPr>
          <p:cNvSpPr/>
          <p:nvPr/>
        </p:nvSpPr>
        <p:spPr>
          <a:xfrm>
            <a:off x="0" y="0"/>
            <a:ext cx="1042920" cy="981000"/>
          </a:xfrm>
          <a:custGeom>
            <a:avLst/>
            <a:gdLst>
              <a:gd name="textAreaLeft" fmla="*/ 63360 w 1042920"/>
              <a:gd name="textAreaRight" fmla="*/ 979560 w 1042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963" h="21600">
                <a:moveTo>
                  <a:pt x="0" y="0"/>
                </a:moveTo>
                <a:lnTo>
                  <a:pt x="22963" y="0"/>
                </a:lnTo>
                <a:lnTo>
                  <a:pt x="22963" y="21600"/>
                </a:lnTo>
                <a:lnTo>
                  <a:pt x="0" y="21600"/>
                </a:lnTo>
                <a:close/>
              </a:path>
              <a:path fill="lightenLess" w="22963" h="21600">
                <a:moveTo>
                  <a:pt x="0" y="0"/>
                </a:moveTo>
                <a:lnTo>
                  <a:pt x="22963" y="0"/>
                </a:lnTo>
                <a:lnTo>
                  <a:pt x="21563" y="1400"/>
                </a:lnTo>
                <a:lnTo>
                  <a:pt x="1400" y="1400"/>
                </a:lnTo>
                <a:close/>
              </a:path>
              <a:path fill="darken" w="22963" h="21600">
                <a:moveTo>
                  <a:pt x="22963" y="0"/>
                </a:moveTo>
                <a:lnTo>
                  <a:pt x="22963" y="21600"/>
                </a:lnTo>
                <a:lnTo>
                  <a:pt x="21563" y="20200"/>
                </a:lnTo>
                <a:lnTo>
                  <a:pt x="21563" y="1400"/>
                </a:lnTo>
                <a:close/>
              </a:path>
              <a:path fill="darkenLess" w="22963" h="21600">
                <a:moveTo>
                  <a:pt x="22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3" y="20200"/>
                </a:lnTo>
                <a:close/>
              </a:path>
              <a:path fill="lighten" w="22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3" h="21600">
                <a:moveTo>
                  <a:pt x="11481" y="3837"/>
                </a:moveTo>
                <a:lnTo>
                  <a:pt x="14058" y="6448"/>
                </a:ln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lnTo>
                  <a:pt x="18444" y="10800"/>
                </a:lnTo>
                <a:lnTo>
                  <a:pt x="16791" y="10800"/>
                </a:lnTo>
                <a:lnTo>
                  <a:pt x="16791" y="17989"/>
                </a:lnTo>
                <a:lnTo>
                  <a:pt x="6172" y="17989"/>
                </a:lnTo>
                <a:lnTo>
                  <a:pt x="6172" y="10800"/>
                </a:lnTo>
                <a:lnTo>
                  <a:pt x="4518" y="10800"/>
                </a:lnTo>
                <a:close/>
              </a:path>
              <a:path fill="darkenLess" w="22963" h="21600">
                <a:moveTo>
                  <a:pt x="14058" y="6448"/>
                </a:moveTo>
                <a:lnTo>
                  <a:pt x="14058" y="4707"/>
                </a:lnTo>
                <a:lnTo>
                  <a:pt x="15833" y="4707"/>
                </a:lnTo>
                <a:lnTo>
                  <a:pt x="15833" y="8224"/>
                </a:lnTo>
                <a:close/>
              </a:path>
              <a:path fill="darkenLess" w="22963" h="21600">
                <a:moveTo>
                  <a:pt x="10559" y="14299"/>
                </a:moveTo>
                <a:lnTo>
                  <a:pt x="12404" y="14299"/>
                </a:lnTo>
                <a:lnTo>
                  <a:pt x="12404" y="17989"/>
                </a:lnTo>
                <a:lnTo>
                  <a:pt x="16791" y="17989"/>
                </a:lnTo>
                <a:lnTo>
                  <a:pt x="16791" y="10800"/>
                </a:lnTo>
                <a:lnTo>
                  <a:pt x="6172" y="10800"/>
                </a:lnTo>
                <a:lnTo>
                  <a:pt x="6172" y="17989"/>
                </a:lnTo>
                <a:lnTo>
                  <a:pt x="10559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lide0033_image280"/>
          <p:cNvPicPr/>
          <p:nvPr/>
        </p:nvPicPr>
        <p:blipFill>
          <a:blip r:embed="rId3"/>
          <a:stretch/>
        </p:blipFill>
        <p:spPr>
          <a:xfrm flipH="1" rot="21565800">
            <a:off x="0" y="-360"/>
            <a:ext cx="61128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692360" y="476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71640" y="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зотная кислота и её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79280" y="1198440"/>
            <a:ext cx="871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учение азот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зот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общие с другими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 специф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заимодействие с метал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заимодействие  с неметал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+ органически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Разложение нитратов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443640" y="2492280"/>
            <a:ext cx="360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372360" y="2421000"/>
            <a:ext cx="143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804000" y="3141720"/>
            <a:ext cx="936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372360" y="3068640"/>
            <a:ext cx="143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7"/>
          <p:cNvSpPr/>
          <p:nvPr/>
        </p:nvSpPr>
        <p:spPr>
          <a:xfrm>
            <a:off x="0" y="652320"/>
            <a:ext cx="9144000" cy="11509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0" y="1773360"/>
            <a:ext cx="4140360" cy="29509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4067280" cy="26146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15" name="Text Box 10"/>
          <p:cNvSpPr/>
          <p:nvPr/>
        </p:nvSpPr>
        <p:spPr>
          <a:xfrm>
            <a:off x="0" y="4365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.Я.Вивюр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95280" y="1084320"/>
            <a:ext cx="49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(к.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(конц.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5364000" y="1052640"/>
            <a:ext cx="3384720" cy="648720"/>
            <a:chOff x="5364000" y="1052640"/>
            <a:chExt cx="3384720" cy="648720"/>
          </a:xfrm>
        </p:grpSpPr>
        <p:sp>
          <p:nvSpPr>
            <p:cNvPr id="118" name="Text Box 12"/>
            <p:cNvSpPr/>
            <p:nvPr/>
          </p:nvSpPr>
          <p:spPr>
            <a:xfrm>
              <a:off x="5364000" y="1052640"/>
              <a:ext cx="3384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aHS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 H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8675640" y="112500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4"/>
          <p:cNvSpPr/>
          <p:nvPr/>
        </p:nvSpPr>
        <p:spPr>
          <a:xfrm>
            <a:off x="179280" y="6523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лаборато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1"/>
          <p:cNvGrpSpPr/>
          <p:nvPr/>
        </p:nvGrpSpPr>
        <p:grpSpPr>
          <a:xfrm>
            <a:off x="0" y="1916280"/>
            <a:ext cx="9325080" cy="5021640"/>
            <a:chOff x="0" y="1916280"/>
            <a:chExt cx="9325080" cy="5021640"/>
          </a:xfrm>
        </p:grpSpPr>
        <p:sp>
          <p:nvSpPr>
            <p:cNvPr id="122" name="Rectangle 18"/>
            <p:cNvSpPr/>
            <p:nvPr/>
          </p:nvSpPr>
          <p:spPr>
            <a:xfrm>
              <a:off x="0" y="5130720"/>
              <a:ext cx="9144000" cy="172728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211640" y="1916280"/>
              <a:ext cx="4932360" cy="3357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" descr=""/>
            <p:cNvPicPr/>
            <p:nvPr/>
          </p:nvPicPr>
          <p:blipFill>
            <a:blip r:embed="rId3"/>
            <a:stretch/>
          </p:blipFill>
          <p:spPr>
            <a:xfrm>
              <a:off x="4211640" y="2533680"/>
              <a:ext cx="493236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4211640" y="1916280"/>
              <a:ext cx="4356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Каталитический реактор окис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Блок доокис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Адсорбционный узел                   (водо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0" y="5489640"/>
              <a:ext cx="932508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+   O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=    NO + 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II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.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O + O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   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=    H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0" y="515772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. В промышлен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2"/>
          <p:cNvGrpSpPr/>
          <p:nvPr/>
        </p:nvGrpSpPr>
        <p:grpSpPr>
          <a:xfrm>
            <a:off x="324000" y="5489640"/>
            <a:ext cx="7921440" cy="1369800"/>
            <a:chOff x="324000" y="5489640"/>
            <a:chExt cx="7921440" cy="1369800"/>
          </a:xfrm>
        </p:grpSpPr>
        <p:sp>
          <p:nvSpPr>
            <p:cNvPr id="129" name="Text Box 19"/>
            <p:cNvSpPr/>
            <p:nvPr/>
          </p:nvSpPr>
          <p:spPr>
            <a:xfrm>
              <a:off x="324000" y="5489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1619280" y="5489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2771640" y="5489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4067280" y="5489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3"/>
            <p:cNvSpPr/>
            <p:nvPr/>
          </p:nvSpPr>
          <p:spPr>
            <a:xfrm>
              <a:off x="5796000" y="5489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885080" y="5516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2124000" y="6308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6"/>
            <p:cNvSpPr/>
            <p:nvPr/>
          </p:nvSpPr>
          <p:spPr>
            <a:xfrm>
              <a:off x="4572000" y="628164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6084720" y="6210360"/>
              <a:ext cx="36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1258920" y="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. Получение азот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4" action="ppaction://hlinksldjump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13151"/>
                </a:moveTo>
                <a:lnTo>
                  <a:pt x="7301" y="13151"/>
                </a:lnTo>
                <a:lnTo>
                  <a:pt x="7301" y="18487"/>
                </a:lnTo>
                <a:cubicBezTo>
                  <a:pt x="7301" y="19409"/>
                  <a:pt x="8102" y="20140"/>
                  <a:pt x="9138" y="20140"/>
                </a:cubicBezTo>
                <a:lnTo>
                  <a:pt x="10800" y="20140"/>
                </a:lnTo>
                <a:cubicBezTo>
                  <a:pt x="11836" y="20140"/>
                  <a:pt x="12636" y="19409"/>
                  <a:pt x="12636" y="18487"/>
                </a:cubicBezTo>
                <a:lnTo>
                  <a:pt x="12636" y="13151"/>
                </a:lnTo>
                <a:lnTo>
                  <a:pt x="10800" y="13151"/>
                </a:lnTo>
                <a:lnTo>
                  <a:pt x="14308" y="9644"/>
                </a:lnTo>
                <a:lnTo>
                  <a:pt x="17981" y="13151"/>
                </a:lnTo>
                <a:lnTo>
                  <a:pt x="16144" y="13151"/>
                </a:lnTo>
                <a:lnTo>
                  <a:pt x="16144" y="18487"/>
                </a:lnTo>
                <a:cubicBezTo>
                  <a:pt x="16144" y="21254"/>
                  <a:pt x="13568" y="23813"/>
                  <a:pt x="10800" y="23813"/>
                </a:cubicBezTo>
                <a:lnTo>
                  <a:pt x="9138" y="23813"/>
                </a:lnTo>
                <a:cubicBezTo>
                  <a:pt x="6370" y="23813"/>
                  <a:pt x="3794" y="21254"/>
                  <a:pt x="3794" y="18487"/>
                </a:cubicBez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5" descr=""/>
          <p:cNvPicPr/>
          <p:nvPr/>
        </p:nvPicPr>
        <p:blipFill>
          <a:blip r:embed="rId5"/>
          <a:stretch/>
        </p:blipFill>
        <p:spPr>
          <a:xfrm>
            <a:off x="4211640" y="1916280"/>
            <a:ext cx="4932360" cy="32716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6">
            <a:hlinkClick r:id="rId6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234000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5"/>
          <p:cNvSpPr/>
          <p:nvPr/>
        </p:nvSpPr>
        <p:spPr>
          <a:xfrm>
            <a:off x="4140360" y="476280"/>
            <a:ext cx="57600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0" y="1198440"/>
            <a:ext cx="9144000" cy="259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651640" y="1773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2916360" y="1773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203640" y="292572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6156360" y="2925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4"/>
          <p:cNvGrpSpPr/>
          <p:nvPr/>
        </p:nvGrpSpPr>
        <p:grpSpPr>
          <a:xfrm>
            <a:off x="1979640" y="1486080"/>
            <a:ext cx="6948360" cy="2288160"/>
            <a:chOff x="1979640" y="1486080"/>
            <a:chExt cx="6948360" cy="2288160"/>
          </a:xfrm>
        </p:grpSpPr>
        <p:sp>
          <p:nvSpPr>
            <p:cNvPr id="150" name="Rectangle 21"/>
            <p:cNvSpPr/>
            <p:nvPr/>
          </p:nvSpPr>
          <p:spPr>
            <a:xfrm>
              <a:off x="4356000" y="1486080"/>
              <a:ext cx="1224000" cy="57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6372360" y="3141720"/>
              <a:ext cx="237636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6948360" y="2638440"/>
              <a:ext cx="1224000" cy="50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4356000" y="2638440"/>
              <a:ext cx="1728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1979640" y="2638440"/>
              <a:ext cx="115236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6372360" y="3070440"/>
              <a:ext cx="25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олее слабых и более летучих к-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 flipV="1">
              <a:off x="2843280" y="2133360"/>
              <a:ext cx="1728720" cy="431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5003640" y="2061720"/>
              <a:ext cx="0" cy="576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364000" y="2133720"/>
              <a:ext cx="1729080" cy="431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"/>
          <p:cNvSpPr/>
          <p:nvPr/>
        </p:nvSpPr>
        <p:spPr>
          <a:xfrm>
            <a:off x="250920" y="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I. 1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щие свойства азот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4000" y="1486080"/>
            <a:ext cx="88200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Me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         MeO             Me(OH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Me X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411280" y="476280"/>
            <a:ext cx="417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04292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042920" y="2925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3"/>
          <p:cNvGrpSpPr/>
          <p:nvPr/>
        </p:nvGrpSpPr>
        <p:grpSpPr>
          <a:xfrm>
            <a:off x="0" y="3933720"/>
            <a:ext cx="9144000" cy="2886480"/>
            <a:chOff x="0" y="3933720"/>
            <a:chExt cx="9144000" cy="2886480"/>
          </a:xfrm>
        </p:grpSpPr>
        <p:sp>
          <p:nvSpPr>
            <p:cNvPr id="165" name="Rectangle 37"/>
            <p:cNvSpPr/>
            <p:nvPr/>
          </p:nvSpPr>
          <p:spPr>
            <a:xfrm>
              <a:off x="0" y="3933720"/>
              <a:ext cx="9144000" cy="2735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6"/>
            <p:cNvSpPr/>
            <p:nvPr/>
          </p:nvSpPr>
          <p:spPr>
            <a:xfrm>
              <a:off x="684360" y="3933720"/>
              <a:ext cx="8459640" cy="28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меры: (рассмотреть с т.зр. ТЭ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ульфит калия 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гидроксид кальция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ксид алюминия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4">
            <a:hlinkClick r:id="rId2" action="ppaction://hlinksldjump"/>
          </p:cNvPr>
          <p:cNvSpPr/>
          <p:nvPr/>
        </p:nvSpPr>
        <p:spPr>
          <a:xfrm rot="5400000">
            <a:off x="8743320" y="6457680"/>
            <a:ext cx="549360" cy="250920"/>
          </a:xfrm>
          <a:custGeom>
            <a:avLst/>
            <a:gdLst>
              <a:gd name="textAreaLeft" fmla="*/ 16200 w 549360"/>
              <a:gd name="textAreaRight" fmla="*/ 533160 w 549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47254" h="21600">
                <a:moveTo>
                  <a:pt x="0" y="0"/>
                </a:moveTo>
                <a:lnTo>
                  <a:pt x="47254" y="0"/>
                </a:lnTo>
                <a:lnTo>
                  <a:pt x="47254" y="21600"/>
                </a:lnTo>
                <a:lnTo>
                  <a:pt x="0" y="21600"/>
                </a:lnTo>
                <a:close/>
              </a:path>
              <a:path fill="lightenLess" w="47254" h="21600">
                <a:moveTo>
                  <a:pt x="0" y="0"/>
                </a:moveTo>
                <a:lnTo>
                  <a:pt x="47254" y="0"/>
                </a:lnTo>
                <a:lnTo>
                  <a:pt x="45854" y="1400"/>
                </a:lnTo>
                <a:lnTo>
                  <a:pt x="1400" y="1400"/>
                </a:lnTo>
                <a:close/>
              </a:path>
              <a:path fill="darken" w="47254" h="21600">
                <a:moveTo>
                  <a:pt x="47254" y="0"/>
                </a:moveTo>
                <a:lnTo>
                  <a:pt x="47254" y="21600"/>
                </a:lnTo>
                <a:lnTo>
                  <a:pt x="45854" y="20200"/>
                </a:lnTo>
                <a:lnTo>
                  <a:pt x="45854" y="1400"/>
                </a:lnTo>
                <a:close/>
              </a:path>
              <a:path fill="darkenLess" w="47254" h="21600">
                <a:moveTo>
                  <a:pt x="4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54" y="20200"/>
                </a:lnTo>
                <a:close/>
              </a:path>
              <a:path fill="lighten" w="4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54" h="21600">
                <a:moveTo>
                  <a:pt x="16620" y="3794"/>
                </a:moveTo>
                <a:lnTo>
                  <a:pt x="30633" y="10800"/>
                </a:lnTo>
                <a:lnTo>
                  <a:pt x="1662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0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1415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169" name="AutoShape 42">
            <a:hlinkClick r:id="rId4" action="ppaction://hlinksldjump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7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0" y="1557360"/>
            <a:ext cx="9144000" cy="23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0" y="4076640"/>
            <a:ext cx="9144000" cy="259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9280" y="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Проверка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ссмотрение реакций с т.зр. ТЭ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0920" y="1771560"/>
            <a:ext cx="8893080" cy="22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Ca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Ca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 2N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C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2N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1547640" y="2563920"/>
            <a:ext cx="576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6659640" y="2491920"/>
            <a:ext cx="57636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508720" y="3355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образова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50920" y="4290840"/>
            <a:ext cx="86421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6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2Al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2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6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 2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324000" y="2492280"/>
            <a:ext cx="36036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V="1">
            <a:off x="3995640" y="2492280"/>
            <a:ext cx="36036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7885080" y="2492280"/>
            <a:ext cx="36036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V="1">
            <a:off x="2916360" y="2491920"/>
            <a:ext cx="57600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5435640" y="2491920"/>
            <a:ext cx="5763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651640" y="580392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растворение оксида и образован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1763640" y="5083200"/>
            <a:ext cx="576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6443640" y="5083200"/>
            <a:ext cx="5763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 flipV="1">
            <a:off x="250920" y="5011560"/>
            <a:ext cx="360360" cy="57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 flipV="1">
            <a:off x="4572000" y="5011560"/>
            <a:ext cx="360360" cy="57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 flipV="1">
            <a:off x="7667640" y="5011560"/>
            <a:ext cx="360360" cy="57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2" action="ppaction://hlinksldjump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13151"/>
                </a:moveTo>
                <a:lnTo>
                  <a:pt x="7301" y="13151"/>
                </a:lnTo>
                <a:lnTo>
                  <a:pt x="7301" y="18487"/>
                </a:lnTo>
                <a:cubicBezTo>
                  <a:pt x="7301" y="19409"/>
                  <a:pt x="8102" y="20140"/>
                  <a:pt x="9138" y="20140"/>
                </a:cubicBezTo>
                <a:lnTo>
                  <a:pt x="10800" y="20140"/>
                </a:lnTo>
                <a:cubicBezTo>
                  <a:pt x="11836" y="20140"/>
                  <a:pt x="12636" y="19409"/>
                  <a:pt x="12636" y="18487"/>
                </a:cubicBezTo>
                <a:lnTo>
                  <a:pt x="12636" y="13151"/>
                </a:lnTo>
                <a:lnTo>
                  <a:pt x="10800" y="13151"/>
                </a:lnTo>
                <a:lnTo>
                  <a:pt x="14308" y="9644"/>
                </a:lnTo>
                <a:lnTo>
                  <a:pt x="17981" y="13151"/>
                </a:lnTo>
                <a:lnTo>
                  <a:pt x="16144" y="13151"/>
                </a:lnTo>
                <a:lnTo>
                  <a:pt x="16144" y="18487"/>
                </a:lnTo>
                <a:cubicBezTo>
                  <a:pt x="16144" y="21254"/>
                  <a:pt x="13568" y="23813"/>
                  <a:pt x="10800" y="23813"/>
                </a:cubicBezTo>
                <a:lnTo>
                  <a:pt x="9138" y="23813"/>
                </a:lnTo>
                <a:cubicBezTo>
                  <a:pt x="6370" y="23813"/>
                  <a:pt x="3794" y="21254"/>
                  <a:pt x="3794" y="18487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0" y="549360"/>
            <a:ext cx="896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2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08720" y="1052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образование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 flipV="1">
            <a:off x="6804000" y="62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8">
            <a:hlinkClick r:id="rId3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8"/>
          <p:cNvSpPr/>
          <p:nvPr/>
        </p:nvSpPr>
        <p:spPr>
          <a:xfrm>
            <a:off x="0" y="3429000"/>
            <a:ext cx="9144000" cy="18716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пецифические свойства: взаимодействие с метал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476280"/>
            <a:ext cx="9144000" cy="2879640"/>
            <a:chOff x="0" y="476280"/>
            <a:chExt cx="9144000" cy="2879640"/>
          </a:xfrm>
        </p:grpSpPr>
        <p:pic>
          <p:nvPicPr>
            <p:cNvPr id="198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9144000" cy="287964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sp>
          <p:nvSpPr>
            <p:cNvPr id="199" name="Rectangle 9"/>
            <p:cNvSpPr/>
            <p:nvPr/>
          </p:nvSpPr>
          <p:spPr>
            <a:xfrm>
              <a:off x="1835280" y="2347920"/>
              <a:ext cx="433080" cy="433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0"/>
          <p:cNvSpPr/>
          <p:nvPr/>
        </p:nvSpPr>
        <p:spPr>
          <a:xfrm>
            <a:off x="2340000" y="400536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активнее Ме, тем больше восстанавл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2340000" y="3502080"/>
            <a:ext cx="67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менее конц., тем больше восстанавл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2"/>
          <p:cNvGrpSpPr/>
          <p:nvPr/>
        </p:nvGrpSpPr>
        <p:grpSpPr>
          <a:xfrm>
            <a:off x="0" y="4581360"/>
            <a:ext cx="8989920" cy="2276640"/>
            <a:chOff x="0" y="4581360"/>
            <a:chExt cx="8989920" cy="2276640"/>
          </a:xfrm>
        </p:grpSpPr>
        <p:pic>
          <p:nvPicPr>
            <p:cNvPr id="203" name="Picture 8" descr="Взаимодействие хлора с бромидами и йодидами"/>
            <p:cNvPicPr/>
            <p:nvPr/>
          </p:nvPicPr>
          <p:blipFill>
            <a:blip r:embed="rId3"/>
            <a:stretch/>
          </p:blipFill>
          <p:spPr>
            <a:xfrm>
              <a:off x="8532720" y="4653000"/>
              <a:ext cx="457200" cy="457200"/>
            </a:xfrm>
            <a:prstGeom prst="rect">
              <a:avLst/>
            </a:prstGeom>
            <a:ln w="57240">
              <a:solidFill>
                <a:srgbClr val="cc6600"/>
              </a:solidFill>
              <a:miter/>
            </a:ln>
          </p:spPr>
        </p:pic>
        <p:sp>
          <p:nvSpPr>
            <p:cNvPr id="204" name="Text Box 22"/>
            <p:cNvSpPr/>
            <p:nvPr/>
          </p:nvSpPr>
          <p:spPr>
            <a:xfrm>
              <a:off x="2340000" y="4581360"/>
              <a:ext cx="62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ассивирование в холодной конц.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, Cr, Fe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но взаимодействие при нагреван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464080"/>
              <a:ext cx="1873080" cy="139392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206" name="Picture 3" descr=""/>
            <p:cNvPicPr/>
            <p:nvPr/>
          </p:nvPicPr>
          <p:blipFill>
            <a:blip r:embed="rId5"/>
            <a:stretch/>
          </p:blipFill>
          <p:spPr>
            <a:xfrm>
              <a:off x="1908000" y="5459400"/>
              <a:ext cx="2735280" cy="139860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</p:grpSp>
      <p:sp>
        <p:nvSpPr>
          <p:cNvPr id="207" name="Line 30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395280" y="3500280"/>
            <a:ext cx="7207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0" y="3500280"/>
            <a:ext cx="27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5"/>
          <p:cNvGrpSpPr/>
          <p:nvPr/>
        </p:nvGrpSpPr>
        <p:grpSpPr>
          <a:xfrm>
            <a:off x="5364000" y="5734080"/>
            <a:ext cx="3780000" cy="863640"/>
            <a:chOff x="5364000" y="5734080"/>
            <a:chExt cx="3780000" cy="863640"/>
          </a:xfrm>
        </p:grpSpPr>
        <p:sp>
          <p:nvSpPr>
            <p:cNvPr id="211" name="Rectangle 27"/>
            <p:cNvSpPr/>
            <p:nvPr/>
          </p:nvSpPr>
          <p:spPr>
            <a:xfrm>
              <a:off x="5364000" y="5734080"/>
              <a:ext cx="3780000" cy="863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5435640" y="5877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заимодействие с металл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8" descr="Взаимодействие хлора с бромидами и йодидами"/>
            <p:cNvPicPr/>
            <p:nvPr/>
          </p:nvPicPr>
          <p:blipFill>
            <a:blip r:embed="rId6"/>
            <a:stretch/>
          </p:blipFill>
          <p:spPr>
            <a:xfrm>
              <a:off x="8532720" y="5950080"/>
              <a:ext cx="457200" cy="457200"/>
            </a:xfrm>
            <a:prstGeom prst="rect">
              <a:avLst/>
            </a:prstGeom>
            <a:ln w="57240">
              <a:solidFill>
                <a:srgbClr val="cc6600"/>
              </a:solidFill>
              <a:miter/>
            </a:ln>
          </p:spPr>
        </p:pic>
      </p:grpSp>
      <p:grpSp>
        <p:nvGrpSpPr>
          <p:cNvPr id="214" name="Group 39"/>
          <p:cNvGrpSpPr/>
          <p:nvPr/>
        </p:nvGrpSpPr>
        <p:grpSpPr>
          <a:xfrm>
            <a:off x="0" y="4292640"/>
            <a:ext cx="2556000" cy="1008720"/>
            <a:chOff x="0" y="4292640"/>
            <a:chExt cx="2556000" cy="1008720"/>
          </a:xfrm>
        </p:grpSpPr>
        <p:sp>
          <p:nvSpPr>
            <p:cNvPr id="215" name="Text Box 36"/>
            <p:cNvSpPr/>
            <p:nvPr/>
          </p:nvSpPr>
          <p:spPr>
            <a:xfrm>
              <a:off x="0" y="4292640"/>
              <a:ext cx="255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t, Au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,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олько в  «царской водке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7"/>
            <p:cNvSpPr/>
            <p:nvPr/>
          </p:nvSpPr>
          <p:spPr>
            <a:xfrm>
              <a:off x="1332000" y="4508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H="1">
              <a:off x="1476360" y="429264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40"/>
          <p:cNvSpPr/>
          <p:nvPr/>
        </p:nvSpPr>
        <p:spPr>
          <a:xfrm>
            <a:off x="2268360" y="3429000"/>
            <a:ext cx="0" cy="18716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7" action="ppaction://hlinksldjump"/>
          </p:cNvPr>
          <p:cNvSpPr/>
          <p:nvPr/>
        </p:nvSpPr>
        <p:spPr>
          <a:xfrm rot="5400000">
            <a:off x="8743320" y="6457680"/>
            <a:ext cx="549360" cy="250920"/>
          </a:xfrm>
          <a:custGeom>
            <a:avLst/>
            <a:gdLst>
              <a:gd name="textAreaLeft" fmla="*/ 16200 w 549360"/>
              <a:gd name="textAreaRight" fmla="*/ 533160 w 549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47254" h="21600">
                <a:moveTo>
                  <a:pt x="0" y="0"/>
                </a:moveTo>
                <a:lnTo>
                  <a:pt x="47254" y="0"/>
                </a:lnTo>
                <a:lnTo>
                  <a:pt x="47254" y="21600"/>
                </a:lnTo>
                <a:lnTo>
                  <a:pt x="0" y="21600"/>
                </a:lnTo>
                <a:close/>
              </a:path>
              <a:path fill="lightenLess" w="47254" h="21600">
                <a:moveTo>
                  <a:pt x="0" y="0"/>
                </a:moveTo>
                <a:lnTo>
                  <a:pt x="47254" y="0"/>
                </a:lnTo>
                <a:lnTo>
                  <a:pt x="45854" y="1400"/>
                </a:lnTo>
                <a:lnTo>
                  <a:pt x="1400" y="1400"/>
                </a:lnTo>
                <a:close/>
              </a:path>
              <a:path fill="darken" w="47254" h="21600">
                <a:moveTo>
                  <a:pt x="47254" y="0"/>
                </a:moveTo>
                <a:lnTo>
                  <a:pt x="47254" y="21600"/>
                </a:lnTo>
                <a:lnTo>
                  <a:pt x="45854" y="20200"/>
                </a:lnTo>
                <a:lnTo>
                  <a:pt x="45854" y="1400"/>
                </a:lnTo>
                <a:close/>
              </a:path>
              <a:path fill="darkenLess" w="47254" h="21600">
                <a:moveTo>
                  <a:pt x="4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54" y="20200"/>
                </a:lnTo>
                <a:close/>
              </a:path>
              <a:path fill="lighten" w="4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54" h="21600">
                <a:moveTo>
                  <a:pt x="16620" y="3794"/>
                </a:moveTo>
                <a:lnTo>
                  <a:pt x="30633" y="10800"/>
                </a:lnTo>
                <a:lnTo>
                  <a:pt x="1662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2">
            <a:hlinkClick r:id="rId8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5"/>
          <p:cNvSpPr/>
          <p:nvPr/>
        </p:nvSpPr>
        <p:spPr>
          <a:xfrm>
            <a:off x="0" y="3933720"/>
            <a:ext cx="9144000" cy="280836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0" y="1773360"/>
            <a:ext cx="9144000" cy="208728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3"/>
          <p:cNvSpPr/>
          <p:nvPr/>
        </p:nvSpPr>
        <p:spPr>
          <a:xfrm>
            <a:off x="0" y="692280"/>
            <a:ext cx="9144000" cy="93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50920" y="7300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0" y="801720"/>
            <a:ext cx="874872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 + 9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baseline="30000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1693080" y="1232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раз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464328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79280" y="173844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0" y="1881360"/>
            <a:ext cx="889308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baseline="30000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  + 4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400" spc="-1" strike="noStrike" baseline="30000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1042920" y="1738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2411280" y="1738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780000" y="1738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64000" y="1738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539640" y="26020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2e        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2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-ль      окис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5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e         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4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ок-ль        вос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3564000" y="267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3995640" y="2962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4788000" y="267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6443640" y="27464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2124000" y="2889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2124000" y="346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0" y="3970440"/>
            <a:ext cx="89647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 +  8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4400" spc="-1" strike="noStrike" baseline="30000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  +  4 H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Cu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051280" y="2240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4643280" y="195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4716360" y="4041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7"/>
          <p:cNvSpPr/>
          <p:nvPr/>
        </p:nvSpPr>
        <p:spPr>
          <a:xfrm flipV="1">
            <a:off x="4932360" y="47620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2341440" y="4329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>
            <a:off x="2268720" y="51220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1620720" y="5445000"/>
            <a:ext cx="2016360" cy="116928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1"/>
          <p:cNvSpPr/>
          <p:nvPr/>
        </p:nvSpPr>
        <p:spPr>
          <a:xfrm>
            <a:off x="3205080" y="551808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2"/>
          <p:cNvSpPr/>
          <p:nvPr/>
        </p:nvSpPr>
        <p:spPr>
          <a:xfrm>
            <a:off x="5364000" y="5445000"/>
            <a:ext cx="2160720" cy="116928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6877080" y="551808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4"/>
          <p:cNvSpPr/>
          <p:nvPr/>
        </p:nvSpPr>
        <p:spPr>
          <a:xfrm>
            <a:off x="1258920" y="38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5"/>
          <p:cNvSpPr/>
          <p:nvPr/>
        </p:nvSpPr>
        <p:spPr>
          <a:xfrm>
            <a:off x="1116000" y="46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"/>
          <p:cNvSpPr/>
          <p:nvPr/>
        </p:nvSpPr>
        <p:spPr>
          <a:xfrm>
            <a:off x="4140360" y="382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"/>
          <p:cNvSpPr/>
          <p:nvPr/>
        </p:nvSpPr>
        <p:spPr>
          <a:xfrm>
            <a:off x="4140360" y="4546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"/>
          <p:cNvSpPr/>
          <p:nvPr/>
        </p:nvSpPr>
        <p:spPr>
          <a:xfrm>
            <a:off x="1332000" y="73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2484360" y="65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0"/>
          <p:cNvSpPr/>
          <p:nvPr/>
        </p:nvSpPr>
        <p:spPr>
          <a:xfrm>
            <a:off x="3851280" y="6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1"/>
          <p:cNvSpPr/>
          <p:nvPr/>
        </p:nvSpPr>
        <p:spPr>
          <a:xfrm>
            <a:off x="5651640" y="6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2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Проверка: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расстановка коэффициентов в ОВР методом электронного балан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">
            <a:hlinkClick r:id="rId2" action="ppaction://hlinksldjump"/>
          </p:cNvPr>
          <p:cNvSpPr/>
          <p:nvPr/>
        </p:nvSpPr>
        <p:spPr>
          <a:xfrm rot="5400000">
            <a:off x="8743320" y="6457680"/>
            <a:ext cx="549360" cy="250920"/>
          </a:xfrm>
          <a:custGeom>
            <a:avLst/>
            <a:gdLst>
              <a:gd name="textAreaLeft" fmla="*/ 16200 w 549360"/>
              <a:gd name="textAreaRight" fmla="*/ 533160 w 5493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47254" h="21600">
                <a:moveTo>
                  <a:pt x="0" y="0"/>
                </a:moveTo>
                <a:lnTo>
                  <a:pt x="47254" y="0"/>
                </a:lnTo>
                <a:lnTo>
                  <a:pt x="47254" y="21600"/>
                </a:lnTo>
                <a:lnTo>
                  <a:pt x="0" y="21600"/>
                </a:lnTo>
                <a:close/>
              </a:path>
              <a:path fill="lightenLess" w="47254" h="21600">
                <a:moveTo>
                  <a:pt x="0" y="0"/>
                </a:moveTo>
                <a:lnTo>
                  <a:pt x="47254" y="0"/>
                </a:lnTo>
                <a:lnTo>
                  <a:pt x="45854" y="1400"/>
                </a:lnTo>
                <a:lnTo>
                  <a:pt x="1400" y="1400"/>
                </a:lnTo>
                <a:close/>
              </a:path>
              <a:path fill="darken" w="47254" h="21600">
                <a:moveTo>
                  <a:pt x="47254" y="0"/>
                </a:moveTo>
                <a:lnTo>
                  <a:pt x="47254" y="21600"/>
                </a:lnTo>
                <a:lnTo>
                  <a:pt x="45854" y="20200"/>
                </a:lnTo>
                <a:lnTo>
                  <a:pt x="45854" y="1400"/>
                </a:lnTo>
                <a:close/>
              </a:path>
              <a:path fill="darkenLess" w="47254" h="21600">
                <a:moveTo>
                  <a:pt x="4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54" y="20200"/>
                </a:lnTo>
                <a:close/>
              </a:path>
              <a:path fill="lighten" w="4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54" h="21600">
                <a:moveTo>
                  <a:pt x="16620" y="3794"/>
                </a:moveTo>
                <a:lnTo>
                  <a:pt x="30633" y="10800"/>
                </a:lnTo>
                <a:lnTo>
                  <a:pt x="1662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7">
            <a:hlinkClick r:id="rId3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2124000" y="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рагмент              домашнего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308720" y="2421000"/>
            <a:ext cx="1835280" cy="16272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265" name="Text Box 7"/>
          <p:cNvSpPr/>
          <p:nvPr/>
        </p:nvSpPr>
        <p:spPr>
          <a:xfrm>
            <a:off x="7488360" y="40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20606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267" name="Text Box 9"/>
          <p:cNvSpPr/>
          <p:nvPr/>
        </p:nvSpPr>
        <p:spPr>
          <a:xfrm>
            <a:off x="7308720" y="198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269" name="Picture 11" descr=""/>
          <p:cNvPicPr/>
          <p:nvPr/>
        </p:nvPicPr>
        <p:blipFill>
          <a:blip r:embed="rId5"/>
          <a:stretch/>
        </p:blipFill>
        <p:spPr>
          <a:xfrm>
            <a:off x="1619280" y="981000"/>
            <a:ext cx="5689440" cy="47516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270" name="Picture 12" descr=""/>
          <p:cNvPicPr/>
          <p:nvPr/>
        </p:nvPicPr>
        <p:blipFill>
          <a:blip r:embed="rId6"/>
          <a:stretch/>
        </p:blipFill>
        <p:spPr>
          <a:xfrm>
            <a:off x="7345440" y="4437000"/>
            <a:ext cx="1798560" cy="208908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271" name="Text Box 13"/>
          <p:cNvSpPr/>
          <p:nvPr/>
        </p:nvSpPr>
        <p:spPr>
          <a:xfrm>
            <a:off x="7488360" y="6491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7"/>
          <a:stretch/>
        </p:blipFill>
        <p:spPr>
          <a:xfrm>
            <a:off x="0" y="2781360"/>
            <a:ext cx="1606680" cy="22320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273" name="Picture 6" descr=""/>
          <p:cNvPicPr/>
          <p:nvPr/>
        </p:nvPicPr>
        <p:blipFill>
          <a:blip r:embed="rId8"/>
          <a:stretch/>
        </p:blipFill>
        <p:spPr>
          <a:xfrm>
            <a:off x="5219640" y="4797360"/>
            <a:ext cx="1557360" cy="172728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274" name="Text Box 16"/>
          <p:cNvSpPr/>
          <p:nvPr/>
        </p:nvSpPr>
        <p:spPr>
          <a:xfrm>
            <a:off x="5292720" y="6491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0" y="17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0" y="5013360"/>
            <a:ext cx="165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ьций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>
            <a:hlinkClick r:id="rId9" action="ppaction://hlinksldjump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13151"/>
                </a:moveTo>
                <a:lnTo>
                  <a:pt x="7301" y="13151"/>
                </a:lnTo>
                <a:lnTo>
                  <a:pt x="7301" y="18487"/>
                </a:lnTo>
                <a:cubicBezTo>
                  <a:pt x="7301" y="19409"/>
                  <a:pt x="8102" y="20140"/>
                  <a:pt x="9138" y="20140"/>
                </a:cubicBezTo>
                <a:lnTo>
                  <a:pt x="10800" y="20140"/>
                </a:lnTo>
                <a:cubicBezTo>
                  <a:pt x="11836" y="20140"/>
                  <a:pt x="12636" y="19409"/>
                  <a:pt x="12636" y="18487"/>
                </a:cubicBezTo>
                <a:lnTo>
                  <a:pt x="12636" y="13151"/>
                </a:lnTo>
                <a:lnTo>
                  <a:pt x="10800" y="13151"/>
                </a:lnTo>
                <a:lnTo>
                  <a:pt x="14308" y="9644"/>
                </a:lnTo>
                <a:lnTo>
                  <a:pt x="17981" y="13151"/>
                </a:lnTo>
                <a:lnTo>
                  <a:pt x="16144" y="13151"/>
                </a:lnTo>
                <a:lnTo>
                  <a:pt x="16144" y="18487"/>
                </a:lnTo>
                <a:cubicBezTo>
                  <a:pt x="16144" y="21254"/>
                  <a:pt x="13568" y="23813"/>
                  <a:pt x="10800" y="23813"/>
                </a:cubicBezTo>
                <a:lnTo>
                  <a:pt x="9138" y="23813"/>
                </a:lnTo>
                <a:cubicBezTo>
                  <a:pt x="6370" y="23813"/>
                  <a:pt x="3794" y="21254"/>
                  <a:pt x="3794" y="18487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0">
            <a:hlinkClick r:id="rId10" action="ppaction://hlinksldjump"/>
          </p:cNvPr>
          <p:cNvSpPr/>
          <p:nvPr/>
        </p:nvSpPr>
        <p:spPr>
          <a:xfrm>
            <a:off x="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34:31Z</dcterms:created>
  <dc:creator>Customer</dc:creator>
  <dc:description/>
  <dc:language>en-US</dc:language>
  <cp:lastModifiedBy>Customer</cp:lastModifiedBy>
  <dcterms:modified xsi:type="dcterms:W3CDTF">2012-01-21T06:52:11Z</dcterms:modified>
  <cp:revision>210</cp:revision>
  <dc:subject/>
  <dc:title>Слайд 1</dc:title>
</cp:coreProperties>
</file>